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391760" y="1152360"/>
            <a:ext cx="4149720" cy="311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93720" y="4436640"/>
            <a:ext cx="5546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1"/>
          </p:nvPr>
        </p:nvSpPr>
        <p:spPr>
          <a:xfrm>
            <a:off x="0" y="875808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12"/>
          </p:nvPr>
        </p:nvSpPr>
        <p:spPr>
          <a:xfrm>
            <a:off x="3927240" y="875808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734-5DF6-426B-BABE-866883B7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27600" y="875808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49E-C98E-4C85-A452-9A8C04DC1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33C-DA73-4B31-9518-C9D79D6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BA7-608B-4EE6-AB26-DCC87E72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03F-CEC4-4627-A1BC-2A5EFBD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968-D6D7-4E2D-AB3E-639DEBB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9B2-2A72-428F-872D-4892A3CA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440-9C01-4299-83BB-8EB73F8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39D-F9B1-4642-B725-D1D66605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0D5-E9B9-474E-8F7C-CF97F0F0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E99-F6E1-41AE-BD28-73723B25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C1E-2040-4331-905E-643E98F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8C3-0570-482A-9D16-46D6BC1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CBD-0179-4978-BDF8-6C3EE759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86A-246C-4795-A110-73DD9AA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8C42-ECED-4E1C-AC5D-AC14F7C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7749-895C-465D-B0EE-B70121C3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C608-03BB-4B64-90F4-8999CA8E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BF20-0B07-4FCF-83D7-868B72FD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15F-7725-4684-B0F3-33EDD30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C7C4-2C76-40D8-93AA-BC35DF4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24AC-F59B-4D83-B5E8-FA6706D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287-1D85-4511-8B5B-51E7810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2138-B496-4452-A878-357C6E25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9840-9EFD-417E-B183-024B7749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21B-D1CE-4FBF-9583-99CAD90C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285E-399B-4E4C-8A77-C3BC328B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BFD7-DDC8-494C-890D-F65ABF36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6753-CF57-4B9F-8EB2-0E97049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1E00-9B5F-4C1B-BFCE-E8D3133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044F-E1CB-4343-B5F7-2D9C4EFC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55560" y="0"/>
            <a:ext cx="8469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A262-02F8-4C9A-B3E2-CF95BDB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0043-1369-4C96-9994-16CC9938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DDAC-32AC-4911-871C-C3E1194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87B4-F0A5-4A7A-AA30-4F73F8A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881F-96AC-49CA-ACF7-91062061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882F-685A-4C3C-BF0E-9989B6F7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40FB-CE27-4C52-A64F-86C7E006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8100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4360" y="3240"/>
            <a:ext cx="849600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4360" y="3240"/>
            <a:ext cx="849600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98100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3240"/>
            <a:ext cx="849600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C38-4AC7-46C1-9A03-5C006E709D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98100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4360" y="3240"/>
            <a:ext cx="849600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E129-CB38-4F7B-A018-05870D11C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98100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3240"/>
            <a:ext cx="849600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B6F-AF21-4EA7-94CA-135D0C30F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Maximum Entropy Model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LN – Natural Language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6443640" y="6453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s by: Fei X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ximum Entrop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y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maximum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entrop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ximize entropy = Minimize commi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del all that is known and assume nothing about what is unknow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del all that is known: satisfy a set of constraints that must 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ssume nothing about what is unknow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oose the most </a:t>
            </a:r>
            <a:r>
              <a:rPr b="0" lang="ja-JP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iform</a:t>
            </a:r>
            <a:r>
              <a:rPr b="0" lang="ja-JP" sz="28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distribu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oose the one with maximum entrop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(Maximum) Entrop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69848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: the uncertainty of a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ying uncertainty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: expected surprise (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1476360" y="4653000"/>
                <a:ext cx="309564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9" name="Picture 17" descr=""/>
          <p:cNvPicPr/>
          <p:nvPr/>
        </p:nvPicPr>
        <p:blipFill>
          <a:blip r:embed="rId1"/>
          <a:srcRect l="4166" t="0" r="18737" b="0"/>
          <a:stretch/>
        </p:blipFill>
        <p:spPr>
          <a:xfrm>
            <a:off x="6516720" y="4653000"/>
            <a:ext cx="2006640" cy="16556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8"/>
          <p:cNvSpPr/>
          <p:nvPr/>
        </p:nvSpPr>
        <p:spPr>
          <a:xfrm>
            <a:off x="7027920" y="63086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6156360" y="5229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4640" y="43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1: Coin-flip exampl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2840" y="1600200"/>
            <a:ext cx="749916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ss a coi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H)=p1, p(T)=p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+ p2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uestion: what’s your estim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p1, p2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swer: choo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1"/>
              <p:cNvSpPr txBox="1"/>
              <p:nvPr/>
            </p:nvSpPr>
            <p:spPr>
              <a:xfrm>
                <a:off x="971640" y="3290760"/>
                <a:ext cx="4038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5" name="Picture 16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095640" cy="2017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3456000" cy="2198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8"/>
          <p:cNvSpPr/>
          <p:nvPr/>
        </p:nvSpPr>
        <p:spPr>
          <a:xfrm>
            <a:off x="255168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55640" y="5013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6137640" y="62564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2360" y="112536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Klein &amp; Manning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vex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267920"/>
            <a:ext cx="496584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strain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Σ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log x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 convex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log x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s conv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log x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s convex (sum of convex functions is convex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feasible region of constrain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is a linear subspace (which is convex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constrained entropy surface is therefore conv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maximum likelihood exponential model (dual) formulation is also conve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91276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952720" cy="2141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"/>
          <p:cNvPicPr/>
          <p:nvPr/>
        </p:nvPicPr>
        <p:blipFill>
          <a:blip r:embed="rId3"/>
          <a:stretch/>
        </p:blipFill>
        <p:spPr>
          <a:xfrm>
            <a:off x="6156360" y="4686480"/>
            <a:ext cx="2808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2: An MT exampl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311120" y="1773360"/>
            <a:ext cx="678996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ssible translation for the word </a:t>
            </a:r>
            <a:r>
              <a:rPr b="0" lang="ja-JP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</a:t>
            </a:r>
            <a:r>
              <a:rPr b="0" lang="ja-JP" sz="24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stra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uitive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730080" y="1197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Berger et. al.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MT example (con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55640" y="1700280"/>
            <a:ext cx="79930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stra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uitive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8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8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MT example (con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55640" y="1700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uitive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 cours 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nd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3: POS tagging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618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ay we have the following event spa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following empirical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probabilities: E[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N, NNS, NNP, NNPS, VBZ, VB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332000" y="5950080"/>
          <a:ext cx="6095880" cy="369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332000" y="4365720"/>
          <a:ext cx="6095880" cy="369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403280" y="2338560"/>
          <a:ext cx="6096240" cy="369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628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403280" y="3284640"/>
          <a:ext cx="6096240" cy="3715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1"/>
          <p:cNvSpPr/>
          <p:nvPr/>
        </p:nvSpPr>
        <p:spPr>
          <a:xfrm>
            <a:off x="5289840" y="76500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Klein and Manning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3 (con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unifor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* are more common than V*, so we add the fe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NN, NNS, NNP, NNPS}, with E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32/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roper nouns are more frequent than common nouns, so we 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NNP, NNPS}, with E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24/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keep refining the models. E.g. by adding a feature to distinguish singular vs. plural nouns, or verb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428840" y="4930920"/>
          <a:ext cx="6095880" cy="369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476360" y="3048120"/>
          <a:ext cx="612000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63800"/>
                <a:gridCol w="968400"/>
                <a:gridCol w="1015920"/>
                <a:gridCol w="104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4640" y="-27360"/>
            <a:ext cx="84693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4: overlapping featur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rcRect l="5780" t="0" r="4225" b="0"/>
          <a:stretch/>
        </p:blipFill>
        <p:spPr>
          <a:xfrm>
            <a:off x="684360" y="3693960"/>
            <a:ext cx="8424720" cy="29037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673200" y="1600200"/>
            <a:ext cx="81468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ent models handle overlapping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ike a NB model, there is no double countin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do not automatically model feature intera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5289840" y="76500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Klein and Manning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e concept of Maximum Entropy can be traced back along multiple threads to Biblical ti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ntroduced to NLP by Berger et. al. (199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Used in many NLP tasks: MT, Tagging, Parsing, PP attachment, LM,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4640" y="-27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eling the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3200" y="1671120"/>
            <a:ext cx="814680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bjective func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Goal: Among all the distributions that satisfy the constraints, choose the on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, that maximiz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Question: How to represent constrai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4"/>
              <p:cNvSpPr txBox="1"/>
              <p:nvPr/>
            </p:nvSpPr>
            <p:spPr>
              <a:xfrm>
                <a:off x="2627280" y="3933720"/>
                <a:ext cx="316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3480" y="-126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2840" y="167112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(a.k.a. feature function, Indicator function) is a binary-valued function on event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0, 1}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: the set of possible classes (e.g., tags in POS tagg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: space of contexts (e.g., neighboring words/ tags in POS tagg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1693800" y="5237280"/>
                <a:ext cx="61912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ET</m:t>
                              </m:r>
                              <m:r>
                                <m:t xml:space="preserve">∧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urWord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tal </m:t>
                              </m:r>
                              <m:r>
                                <m:t xml:space="preserve">tha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/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me no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2"/>
              <p:cNvSpPr txBox="1"/>
              <p:nvPr/>
            </p:nvSpPr>
            <p:spPr>
              <a:xfrm>
                <a:off x="5616720" y="1557360"/>
                <a:ext cx="395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4"/>
              <p:cNvSpPr txBox="1"/>
              <p:nvPr/>
            </p:nvSpPr>
            <p:spPr>
              <a:xfrm>
                <a:off x="5651640" y="2284560"/>
                <a:ext cx="8064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6"/>
              <p:cNvSpPr txBox="1"/>
              <p:nvPr/>
            </p:nvSpPr>
            <p:spPr>
              <a:xfrm>
                <a:off x="5651640" y="2997360"/>
                <a:ext cx="820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8"/>
              <p:cNvSpPr txBox="1"/>
              <p:nvPr/>
            </p:nvSpPr>
            <p:spPr>
              <a:xfrm>
                <a:off x="5580000" y="3645000"/>
                <a:ext cx="531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9" name="Text Box 6"/>
          <p:cNvSpPr/>
          <p:nvPr/>
        </p:nvSpPr>
        <p:spPr>
          <a:xfrm>
            <a:off x="900000" y="1558800"/>
            <a:ext cx="45324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training sample of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probability of x in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bability of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expec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pirical cou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pec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0"/>
              <p:cNvSpPr txBox="1"/>
              <p:nvPr/>
            </p:nvSpPr>
            <p:spPr>
              <a:xfrm>
                <a:off x="5364000" y="5950080"/>
                <a:ext cx="2519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5435640" y="4653000"/>
                <a:ext cx="28796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sub>
                      <m:sup/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63480" y="-27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73200" y="1671120"/>
            <a:ext cx="814680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del</a:t>
            </a:r>
            <a:r>
              <a:rPr b="0" lang="ja-JP" sz="28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 feature expectation = observed feature expec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ow to calculate            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2916360" y="2565360"/>
                <a:ext cx="2808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6"/>
              <p:cNvSpPr txBox="1"/>
              <p:nvPr/>
            </p:nvSpPr>
            <p:spPr>
              <a:xfrm>
                <a:off x="3635280" y="3608280"/>
                <a:ext cx="1008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1979640" y="5589720"/>
                <a:ext cx="61927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ET</m:t>
                              </m:r>
                              <m:r>
                                <m:t xml:space="preserve">∧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urWord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tal </m:t>
                              </m:r>
                              <m:r>
                                <m:t xml:space="preserve">tha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/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9"/>
              <p:cNvSpPr txBox="1"/>
              <p:nvPr/>
            </p:nvSpPr>
            <p:spPr>
              <a:xfrm>
                <a:off x="1979640" y="4292640"/>
                <a:ext cx="3744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sub>
                      <m:sup/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Training data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observed event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767280" cy="760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4608720" cy="217008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6"/>
          <p:cNvSpPr/>
          <p:nvPr/>
        </p:nvSpPr>
        <p:spPr>
          <a:xfrm>
            <a:off x="3708360" y="270828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059280" y="1916280"/>
            <a:ext cx="576000" cy="504720"/>
          </a:xfrm>
          <a:prstGeom prst="rect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3480" y="-27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stating the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3854520" y="1608120"/>
                <a:ext cx="21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2482920" y="2565360"/>
                <a:ext cx="4753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6"/>
              <p:cNvSpPr txBox="1"/>
              <p:nvPr/>
            </p:nvSpPr>
            <p:spPr>
              <a:xfrm>
                <a:off x="2360520" y="4437000"/>
                <a:ext cx="4635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18"/>
              <p:cNvSpPr txBox="1"/>
              <p:nvPr/>
            </p:nvSpPr>
            <p:spPr>
              <a:xfrm>
                <a:off x="900000" y="5157720"/>
                <a:ext cx="1727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8" name="Text Box 11"/>
          <p:cNvSpPr/>
          <p:nvPr/>
        </p:nvSpPr>
        <p:spPr>
          <a:xfrm>
            <a:off x="755640" y="1557360"/>
            <a:ext cx="799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task: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jective func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216240" y="529596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dd a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1"/>
              <p:cNvSpPr txBox="1"/>
              <p:nvPr/>
            </p:nvSpPr>
            <p:spPr>
              <a:xfrm>
                <a:off x="4932360" y="5292720"/>
                <a:ext cx="187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2"/>
              <p:cNvSpPr txBox="1"/>
              <p:nvPr/>
            </p:nvSpPr>
            <p:spPr>
              <a:xfrm>
                <a:off x="3348000" y="5805360"/>
                <a:ext cx="2376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AutoShape 23"/>
          <p:cNvSpPr/>
          <p:nvPr/>
        </p:nvSpPr>
        <p:spPr>
          <a:xfrm>
            <a:off x="2700360" y="5229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empt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Doe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exi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uniqu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What is the form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How to fi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hat is the form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1406520" y="2289240"/>
                <a:ext cx="6186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1476360" y="3225960"/>
                <a:ext cx="56865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9"/>
          <p:cNvSpPr/>
          <p:nvPr/>
        </p:nvSpPr>
        <p:spPr>
          <a:xfrm>
            <a:off x="826920" y="4724280"/>
            <a:ext cx="784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urthermo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s u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2"/>
              <p:cNvSpPr txBox="1"/>
              <p:nvPr/>
            </p:nvSpPr>
            <p:spPr>
              <a:xfrm>
                <a:off x="5364000" y="4741920"/>
                <a:ext cx="2592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ctangle 1"/>
          <p:cNvSpPr/>
          <p:nvPr/>
        </p:nvSpPr>
        <p:spPr>
          <a:xfrm>
            <a:off x="725760" y="119700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Ratnaparkhi,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63480" y="-27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ing Lagrangian multipli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2846520" y="1627200"/>
                <a:ext cx="37414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9"/>
              <p:cNvSpPr txBox="1"/>
              <p:nvPr/>
            </p:nvSpPr>
            <p:spPr>
              <a:xfrm>
                <a:off x="2843280" y="2492280"/>
                <a:ext cx="6232320" cy="41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Text Box 4"/>
          <p:cNvSpPr/>
          <p:nvPr/>
        </p:nvSpPr>
        <p:spPr>
          <a:xfrm>
            <a:off x="847800" y="1838160"/>
            <a:ext cx="1708200" cy="461520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inim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v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6348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wo equivalent for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1547640" y="2852640"/>
                <a:ext cx="270216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6"/>
              <p:cNvSpPr txBox="1"/>
              <p:nvPr/>
            </p:nvSpPr>
            <p:spPr>
              <a:xfrm>
                <a:off x="1476360" y="1700280"/>
                <a:ext cx="2806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8"/>
              <p:cNvSpPr txBox="1"/>
              <p:nvPr/>
            </p:nvSpPr>
            <p:spPr>
              <a:xfrm>
                <a:off x="3059280" y="4941720"/>
                <a:ext cx="328104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AutoShape 10"/>
          <p:cNvSpPr/>
          <p:nvPr/>
        </p:nvSpPr>
        <p:spPr>
          <a:xfrm>
            <a:off x="1692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deling: Intuition, basic concepts,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arameter tr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eature se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ase stu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6"/>
          <p:cNvSpPr/>
          <p:nvPr/>
        </p:nvSpPr>
        <p:spPr>
          <a:xfrm>
            <a:off x="684360" y="1773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log-likelihood of the empirical distribution      as predicted by a mod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lation to Maximum Likeliho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2411280" y="2852640"/>
                <a:ext cx="4104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sub>
                      <m:sup/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8172360" y="1844640"/>
                <a:ext cx="360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2916360" y="4292640"/>
                <a:ext cx="13046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∈</m:t>
                    </m:r>
                    <m:r>
                      <m:t xml:space="preserve">P</m:t>
                    </m:r>
                    <m:r>
                      <m:t xml:space="preserve">∩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2"/>
              <p:cNvSpPr txBox="1"/>
              <p:nvPr/>
            </p:nvSpPr>
            <p:spPr>
              <a:xfrm>
                <a:off x="5724360" y="4221000"/>
                <a:ext cx="2489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lim>
                    </m:limLow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 Box 11"/>
          <p:cNvSpPr/>
          <p:nvPr/>
        </p:nvSpPr>
        <p:spPr>
          <a:xfrm>
            <a:off x="745560" y="422100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: if                   then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2"/>
          <p:cNvSpPr/>
          <p:nvPr/>
        </p:nvSpPr>
        <p:spPr>
          <a:xfrm>
            <a:off x="826920" y="1628640"/>
            <a:ext cx="7632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proved that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s it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maximum entropy is the model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 the likelihood of the training s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63480" y="-12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 (so far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2011320" y="2276640"/>
                <a:ext cx="4905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6"/>
              <p:cNvSpPr txBox="1"/>
              <p:nvPr/>
            </p:nvSpPr>
            <p:spPr>
              <a:xfrm>
                <a:off x="2052720" y="4978440"/>
                <a:ext cx="4895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9"/>
              <p:cNvSpPr txBox="1"/>
              <p:nvPr/>
            </p:nvSpPr>
            <p:spPr>
              <a:xfrm>
                <a:off x="1979640" y="4532400"/>
                <a:ext cx="360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 (con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dding constraints (features)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Klein and Manning, 200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ower maximum entrop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aise maximum likelihood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ing the distribution further from uni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ing the distribution closer to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ameter estim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lgorith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eneralized Iterative Scaling (GIS)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Darroch and Ratcliff, 197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mproved Iterative Scaling (IIS)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Della Pietra et al., 199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348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IS: setu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73200" y="1599840"/>
            <a:ext cx="814680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quirements for running G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bey form of model and constrai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additional constrain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dd a new feature </a:t>
            </a: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w Cen MT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w Cen MT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6"/>
              <p:cNvSpPr txBox="1"/>
              <p:nvPr/>
            </p:nvSpPr>
            <p:spPr>
              <a:xfrm>
                <a:off x="1395360" y="2602080"/>
                <a:ext cx="274644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8"/>
              <p:cNvSpPr txBox="1"/>
              <p:nvPr/>
            </p:nvSpPr>
            <p:spPr>
              <a:xfrm>
                <a:off x="5292720" y="3067200"/>
                <a:ext cx="2016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9"/>
              <p:cNvSpPr txBox="1"/>
              <p:nvPr/>
            </p:nvSpPr>
            <p:spPr>
              <a:xfrm>
                <a:off x="5292720" y="3860640"/>
                <a:ext cx="33829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ε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292720" y="5689440"/>
                <a:ext cx="3672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11"/>
              <p:cNvSpPr txBox="1"/>
              <p:nvPr/>
            </p:nvSpPr>
            <p:spPr>
              <a:xfrm>
                <a:off x="1835280" y="4724280"/>
                <a:ext cx="2232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IS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7428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ize            (any values, e.g., 0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until conve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3205080" y="4268880"/>
                <a:ext cx="2948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6"/>
              <p:cNvSpPr txBox="1"/>
              <p:nvPr/>
            </p:nvSpPr>
            <p:spPr>
              <a:xfrm>
                <a:off x="3132000" y="3429000"/>
                <a:ext cx="3529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ε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2987640" y="5589720"/>
                <a:ext cx="3529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"/>
              <p:cNvSpPr txBox="1"/>
              <p:nvPr/>
            </p:nvSpPr>
            <p:spPr>
              <a:xfrm>
                <a:off x="2693880" y="2133720"/>
                <a:ext cx="582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Approximation for calculating feature expectation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2089080" y="1830240"/>
                <a:ext cx="49626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ε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B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sub>
                          <m:sup/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sub>
                          <m:sup/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perties of G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440" y="1267920"/>
            <a:ext cx="83502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e is guaranteed to converge to p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ge can be very sl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ing time of each iteration is O(NPA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the training set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the number of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the average number of features that are active for a given event (a, 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 se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 pap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Ratnaparkhi, 199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Ratnaparkhi, 199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Berger et. al., 199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(Klein and Manning, 200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fferent not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 se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w in many features and let the machine select the we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ly specify feature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too many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: greedy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n empty set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feature at each it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3480" y="-27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382760" y="2101680"/>
            <a:ext cx="6192720" cy="592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1527120" y="2606760"/>
            <a:ext cx="3311640" cy="693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3"/>
          <a:stretch/>
        </p:blipFill>
        <p:spPr>
          <a:xfrm>
            <a:off x="1311120" y="3830760"/>
            <a:ext cx="6769080" cy="615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"/>
          <p:cNvPicPr/>
          <p:nvPr/>
        </p:nvPicPr>
        <p:blipFill>
          <a:blip r:embed="rId4"/>
          <a:stretch/>
        </p:blipFill>
        <p:spPr>
          <a:xfrm>
            <a:off x="1527120" y="4262400"/>
            <a:ext cx="3600360" cy="9572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5"/>
          <a:stretch/>
        </p:blipFill>
        <p:spPr>
          <a:xfrm>
            <a:off x="2174760" y="5732640"/>
            <a:ext cx="4032360" cy="825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9"/>
          <p:cNvSpPr/>
          <p:nvPr/>
        </p:nvSpPr>
        <p:spPr>
          <a:xfrm>
            <a:off x="1225800" y="528948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in in the log-likelihood of the train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1147320" y="32734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dding a fe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1165680" y="167004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feature set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-2736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eature selection algorithm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tart with S being empty; thu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s uni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peat until the gain is small enou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ach candidate feature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mputer the model                  using I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alculate the log-likelihood g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oose the feature with maximal gain, and add it to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4140360" y="3429000"/>
                <a:ext cx="825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∪</m:t>
                        </m:r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Text Box 6"/>
          <p:cNvSpPr/>
          <p:nvPr/>
        </p:nvSpPr>
        <p:spPr>
          <a:xfrm>
            <a:off x="408600" y="59500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too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1692360" y="3500280"/>
            <a:ext cx="4751280" cy="505080"/>
          </a:xfrm>
          <a:prstGeom prst="rect">
            <a:avLst/>
          </a:prstGeom>
          <a:solidFill>
            <a:srgbClr val="33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657000" y="119700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Berger et al.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pproximating gain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4360" y="1600200"/>
            <a:ext cx="7704000" cy="17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recalculating all the weights, calculate only the weight of the new featu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321080" cy="2933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"/>
          <p:cNvSpPr/>
          <p:nvPr/>
        </p:nvSpPr>
        <p:spPr>
          <a:xfrm>
            <a:off x="802080" y="112536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Berger et. al.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ing a MaxEnt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#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eatures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feature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optimum feature weights via GIS or I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#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eature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andidate feature set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very iteration, choose the feature from S (with max gain) and determine its weight (or choose top-n features and their weigh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74640" y="-27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POS tagging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72840" y="174420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otation vari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clas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con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history fo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or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ag fo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isto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aining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eat it as a list o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pai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w many pairs are t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725760" y="11253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Ratnaparkhi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ing a MaxEnt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eatures tem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feature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optimum feature weights via GIS or I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ing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547640" y="1484280"/>
                <a:ext cx="352908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1547640" y="4797360"/>
                <a:ext cx="403704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∈</m:t>
                            </m:r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raining step 1: define feature template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218120" y="6165720"/>
            <a:ext cx="110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7092720" y="6165720"/>
            <a:ext cx="73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116000" y="1700280"/>
          <a:ext cx="7343640" cy="4395600"/>
        </p:xfrm>
        <a:graphic>
          <a:graphicData uri="http://schemas.openxmlformats.org/drawingml/2006/table">
            <a:tbl>
              <a:tblPr/>
              <a:tblGrid>
                <a:gridCol w="1800360"/>
                <a:gridCol w="3959280"/>
                <a:gridCol w="15840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not r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r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prefix of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|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 ≤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suffix of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|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 ≤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ntains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ntains uppercas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contains hyp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Generative vs Discriminative Model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u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y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ayes ru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Entropy (≈ Logistic Regress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osterior probability direct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467240" y="1660680"/>
                <a:ext cx="3835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j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906560" y="3090960"/>
                <a:ext cx="55753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j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x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2362320" y="5334120"/>
                <a:ext cx="49435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Î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ep 2: Create feature se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767280" cy="760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4608720" cy="217008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5"/>
          <p:cNvSpPr/>
          <p:nvPr/>
        </p:nvSpPr>
        <p:spPr>
          <a:xfrm>
            <a:off x="3708360" y="270828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059280" y="1916280"/>
            <a:ext cx="576000" cy="504720"/>
          </a:xfrm>
          <a:prstGeom prst="rect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963360" y="566100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all the features from the 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away features that appear less than 10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Step 3: determine the feature weight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i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ration: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T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: the training set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the number of allowable t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verage number of features that are active for a (h, 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eatur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: Beam sear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a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nd to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ly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1, 2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ntence lengt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ag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iv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revious tag 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 each ta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a new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prob sequences generated above, and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highest prob sequ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am sear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5" name="Content Placeholder 2"/>
          <p:cNvSpPr/>
          <p:nvPr/>
        </p:nvSpPr>
        <p:spPr>
          <a:xfrm>
            <a:off x="685800" y="1197000"/>
            <a:ext cx="77724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i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each position keep the to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te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each sequence in each local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xtensions compete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lots at the nex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t: and beam sizes of 3-5 are as good or almost as good as exact inference in man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implement (no dynamic programming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exact: the global best sequence can fall off th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sear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7" name="Content Placeholder 2"/>
          <p:cNvSpPr/>
          <p:nvPr/>
        </p:nvSpPr>
        <p:spPr>
          <a:xfrm>
            <a:off x="685800" y="1197000"/>
            <a:ext cx="77724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erbi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 programming or memo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small window of state influence (e.g.,  past two states are rele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ct: the global best sequence is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t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er to implement long-distance state-state interactions (but beam inference tends not to allow long-distance resurrection of sequences any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 (con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ags for word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nown words: use tag diction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known words: try all possible ta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x: 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ime flies like an arrow</a:t>
            </a:r>
            <a:r>
              <a:rPr b="0" lang="ja-JP" sz="32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ning time: O(NTA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: sentence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: beam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: tagse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: average number of features that are active for a given ev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eriment results: Error rat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2071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arison with other learn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: MaxEnt uses more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T:  MaxEnt does not spli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L:   MaxEnt is statistical and it provides probability distribu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xEnt 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440" y="1196640"/>
            <a:ext cx="827892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ncept: choose the p* that maximizes entropy while satisfying all the constrain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x likelihood: p* is also the model within a model family that maximizes the log-likelihood of the training dat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raining: GIS or IIS, which can be sl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xEnt handles overlapping features well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n general, MaxEnt achieves good performances on many NLP task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668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348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basic ide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oal: estimat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with maximum entropy (or 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uncertainty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) subject to the constraints (or 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vidence</a:t>
            </a:r>
            <a:r>
              <a:rPr b="0" lang="ja-JP" sz="36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1763640" y="4149720"/>
                <a:ext cx="403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1835280" y="5300640"/>
                <a:ext cx="611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rom training data, collect (a, b) pair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: thing to be predicted (e.g.,  a class in a classification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: the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x: POS tagging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=N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=the words in a window and previous two ta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Learn the probability of each (a, b):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560" y="0"/>
            <a:ext cx="8469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eatures in POS tagging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862360" y="62308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(a.k.a. his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447960" y="62373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abl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16000" y="1700280"/>
          <a:ext cx="7343640" cy="4395600"/>
        </p:xfrm>
        <a:graphic>
          <a:graphicData uri="http://schemas.openxmlformats.org/drawingml/2006/table">
            <a:tbl>
              <a:tblPr/>
              <a:tblGrid>
                <a:gridCol w="1800360"/>
                <a:gridCol w="3959280"/>
                <a:gridCol w="15840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not r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r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prefix of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|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 ≤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suffix of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|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 ≤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ntains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ntains uppercas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contains hyp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1"/>
          <p:cNvSpPr/>
          <p:nvPr/>
        </p:nvSpPr>
        <p:spPr>
          <a:xfrm>
            <a:off x="725760" y="11253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Ratnaparkhi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02:05:58Z</dcterms:created>
  <dc:creator>.</dc:creator>
  <dc:description/>
  <dc:language>en-US</dc:language>
  <cp:lastModifiedBy>Giuseppe Attardi</cp:lastModifiedBy>
  <dcterms:modified xsi:type="dcterms:W3CDTF">2016-11-11T20:12:04Z</dcterms:modified>
  <cp:revision>162</cp:revision>
  <dc:subject/>
  <dc:title>Maximum Entropy Model</dc:title>
</cp:coreProperties>
</file>